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4A5-240D-46DD-9CD4-90D487AE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730-B1B1-46AF-AF44-10D29852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12DC-ECA2-4C11-8A0E-C253C7EB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1E0-0C73-4CF8-B92A-AB6383C4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F86-16CD-4AC7-885D-4FFBE884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891-B54B-4BFA-8F2B-746D2B72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8B0-1679-4811-A6B7-08E49C34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7B8-D687-4B8F-A11C-D70BA6E5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79C-3E72-4D36-A1BC-BC6A9974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BC1-7C53-405B-BCB7-68340BD5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B5D-0995-47EA-9016-0A8C33C4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8BF-B30C-4B40-90BC-B78A29DD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6246-81A8-4420-B11D-0B660CD44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4572000" cy="3162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27280" y="1341360"/>
            <a:ext cx="347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8800" y="1916280"/>
            <a:ext cx="8302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Why couldn't the skele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go to the Christmas Party 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18160" y="2852640"/>
            <a:ext cx="714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e had no body to go with 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13080" y="1626120"/>
            <a:ext cx="456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Knock Knock</a:t>
            </a:r>
            <a:br>
              <a:rPr sz="5400"/>
            </a:b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Who's there ?</a:t>
            </a:r>
            <a:br>
              <a:rPr sz="5400"/>
            </a:b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Mary</a:t>
            </a:r>
            <a:br>
              <a:rPr sz="5400"/>
            </a:b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Mary who ?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19640" y="2565360"/>
            <a:ext cx="59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Mary Christmas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08520" y="2467800"/>
            <a:ext cx="7854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hat does Father 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rite on his Christmas cards ?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27600" y="1628640"/>
            <a:ext cx="4998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CDEFGHIJK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PQRSTUVWXYZ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No-L !!) 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21520" y="2376720"/>
            <a:ext cx="511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at do snow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at for lunch 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40720" y="2276640"/>
            <a:ext cx="55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Icebergers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69480" y="2379960"/>
            <a:ext cx="699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ow can Santa's sleig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ossibly fly through the ai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73080" y="2975040"/>
            <a:ext cx="653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ou would t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f you go by flying reindee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76360" y="1492200"/>
            <a:ext cx="671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What do you have in Decemb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hat you don't have in any other month ?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87400" y="3040200"/>
            <a:ext cx="1095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ow does Rudolph k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en Christmas is coming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31280" y="292428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e looks at his calen-?deer?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441360"/>
            <a:ext cx="66247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24240" y="333360"/>
            <a:ext cx="47131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720" y="256536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The letter "D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65440" y="2276640"/>
            <a:ext cx="650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What does Father Christm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uffer from if he gets stu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 a chimney ?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31600" y="2997360"/>
            <a:ext cx="53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anta Claustrophobia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39920" y="2376720"/>
            <a:ext cx="6238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um, Can I have a 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or Christmas ?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33880" y="2925720"/>
            <a:ext cx="621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, you can have tur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ke everyone 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65360" y="2467800"/>
            <a:ext cx="700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hat’s the best thing to pu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to a Christmas cake ?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19240" y="249228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Your teeth 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1:52:38Z</dcterms:created>
  <dc:creator>MCC</dc:creator>
  <dc:description/>
  <dc:language>en-US</dc:language>
  <cp:lastModifiedBy>MCC</cp:lastModifiedBy>
  <dcterms:modified xsi:type="dcterms:W3CDTF">2010-12-17T12:37:31Z</dcterms:modified>
  <cp:revision>4</cp:revision>
  <dc:subject/>
  <dc:title>Diapositiva 1</dc:title>
</cp:coreProperties>
</file>